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dt" idx="4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move the slide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ftr" idx="4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 type="sldNum" idx="4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4990C-C5A7-4913-AAAF-0EA3249BA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freelance-writing.lovetoknow.com/Tips_on_Writing_a_Memoir" TargetMode="External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ly, a memoir reads more like a novel than an autobiography. While an autobiography often covers a long time period and provides many details, a memoir deals with events related to a specific theme. Examples of topics for memoirs may include recovering from an eating disorder, dealing with an abusive spouse, or what it's like to live with a chronic illne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peaking, memoirs tend to be much more popular than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utobiograph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Although a memoir is true, the events are told in a way that makes it seem like a fictional work. This makes the story much more interesting to the reader, even if the author is someone they have never heard of befo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42100-DEC2-4191-A5D4-8B8B425E9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811AC-CC92-4619-9B7C-2EC9995B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FD882-205B-4553-89CA-267DE478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41326C-D918-4536-A9BA-6E40A784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F1355C-CF2D-47EA-8635-25F094D6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1600F1-2301-4904-9888-B21B4E75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3C792-A2F9-4103-869F-60EFB0F4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450B7-2A9F-487E-956D-44C03055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DF1EB-A418-4B39-B018-1EFA1523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FE41D-157B-46AA-BC9E-A4E67048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819D81-1840-45E6-9502-FC1BD1E5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316F5-4F32-4604-9D73-A69CB74F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9F48C-1722-42D3-B754-469954AD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8F58E-FE4F-4A02-8B4D-AF9AD080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439721-1D48-480E-BB0A-634554B1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4792B2-02E9-4871-9D49-9038D6BE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71D736-DECB-4AE1-907A-25095EF1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EECB09-1264-4CF2-AF28-8799DE6A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9F5B6-6955-4184-8641-2B874472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A117AC-D2C4-4AE8-A89F-4944798C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24ED6C-A919-4488-8EAD-F2179AF8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E8BCC-2445-41B4-AE09-945B78D8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13F1F-59FA-492C-BD6C-29EF8308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B108CE-9ED7-4549-8FFA-FF0E554A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AE66-83CD-49AB-8106-2C6457F5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A7749-93A1-4931-8367-A9BCA043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739EEB-BB2D-4518-9094-6994D04E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1788B3-9C08-45AA-9F70-9D3909B1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1F2E42-7513-401B-9F82-73304697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C3BF06-1AD4-46B2-A479-968A3130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F6D500-2ABD-4930-AA58-A3C6FD84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FF89C9-C036-4DE9-8323-A3766B58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1FCF07-A8E2-4F0A-B0DB-4FD952FD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4AC306-E6B6-479A-9242-64EA9DDF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F92562-F481-4B0B-88D4-EF803FEA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F7FF28-C453-4893-A995-4181E3BC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C0BEF3-6178-4404-A188-68A6E519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6A00AE-00AB-47A6-965D-B1AB8D67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263A0C-DFD5-4DAC-8A8F-741AE584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E11CAE-9A42-4D76-9A90-0D1FEEF1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82796-4611-47BB-9AEC-305AF847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918BC2-AE38-4D51-A219-8C41D563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2506E7-79DC-4AEC-ACA4-38F7C35A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0FBE8-7DB4-4CCE-89E6-C41EF0F3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6C8639-1561-489C-AFBE-C3E950F5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091B7-D81C-4C23-9E00-1D36ABA5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614E77-2433-499B-BEF2-34B211AD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82AF44-7A54-4182-A3BF-19D1AABE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DDEF4-A0C4-44AD-9F4B-04A0F327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AF0879-1DD8-4EC9-B656-773ABA86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5B8823-3A9E-4056-8D48-B353D9E7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2DB086-371D-45EA-9147-27CF7F1E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F92E23-2D76-4C3E-A21F-8BD7003B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47594C-6B21-4FF3-AD75-ED56EA00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091BA4-9512-467D-84E3-EE33B59E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FAA692-DF4F-4D00-95F4-96F7C50C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A82439-A2C6-4E53-BD80-A512238A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5BA47B-CD31-4D47-9402-75F21C3E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B6698DE-3351-43D8-BA57-BF56F117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169B11-4545-4BEB-9F64-95B0C0D4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5F2EDC-5D2B-43DE-A0CA-802FEFF6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A54B2B-13E3-4E5F-A33D-B0C3B259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4E9A12-907C-4F7F-BAA7-F9D6C6E3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4851BD4-852A-4486-8F38-B2D06671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3804BE-68C2-4EA3-AD2C-BB1ECB17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5F7623-1798-476E-8E1B-CCAD27CE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13DEFE9-13E6-4B29-9F49-5E55D014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26B17E-9A6E-4533-B958-B79923EB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BB2164-9466-4035-BB71-7090AB55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B6F47E6-A149-4E1E-BD4E-94D1AC5A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7A95118-9F02-45C8-97FD-E31E7E23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6D64F99-4BAF-4787-842D-B0D9ADA5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9AA4F3-6582-4F91-86D4-DCAC285C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DEFF03E-FF1E-47DC-9DC0-C5D9CF85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1AE08-DA99-4485-8EC9-C478E6D8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38059-9E6D-49C5-9A3D-DC060B76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306E7-4A96-4C50-A162-23FD312E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6D7F8B-265F-4B36-8F14-AA68879D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93DD4-9F15-4F6A-81EA-508E51D5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6F660-5D5C-4550-AD9B-05EB7124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C456D-7D8B-4DBA-87E8-DDE9B4C1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02134-E9CD-4047-A221-799AF682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240E9-D98D-4B2F-90D7-662FBD39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9E504-6D6A-40DC-BCBA-44BED64C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83082-B758-4517-9932-B4D67A0B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A4A76-603D-48D7-B68E-1FEDEB3D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9F7A8-0CB1-4A7A-AA5F-37A9AAAB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97DA4-1F1D-4BF5-B609-575E0283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DBB36-518F-4814-9521-EF79F635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B2B974-0C19-4C0D-954F-C82D0611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DE7B6-23B0-447F-BA50-6591986D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D85459-2B48-420D-8273-833F8389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AB0ADF-878E-44C5-8396-59768514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40CD96-96A3-4EA0-82E4-78DD8030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F2FB63-74FA-4207-8763-09953DFD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4D22FD-BA62-43A6-966B-8E487F3A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673C17-6AFD-4FEB-B186-DD79E993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7C0236-E8D5-4781-90A0-2470B784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A45944-AE61-4955-A07E-80E4327C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ABAD61-2226-436A-85B1-A1E7A394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47DBD7-7303-4991-932F-7B938730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5378B-1FCE-48E3-B6C2-9A06EDF2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FD99C6-AA70-4E05-9671-369E08EC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22E8FB-DF00-40C3-B486-91E41729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9C1B3B-2A3E-4EC0-94D3-E6E4AF4E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C11340-B891-4B6D-9D19-07D0345D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9A283B-A00D-4F19-99BD-A3086994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F99821-2CB2-40AF-93A3-881F756D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0F3197-2FCE-4DC7-A53A-D36C9899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A5BDCC-C312-48C6-A27D-EF3AFF9C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FFF0D9-D098-477B-9448-4F9DA838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06959F-68F5-464B-9974-00395CBE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1C460-734F-4D87-99CA-003C1D0D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2B292B-B144-4357-811D-118CB487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E36E11-22CF-4E23-ABF5-AE071F10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170BE9-4AAC-478A-AF8E-B26A7CE8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AB109C-3A92-45EA-B9B2-476CF599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D30A92-1BF6-4405-8018-144E3C52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4AC3C2-D293-4471-9A05-683DAC65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2C08BC-56CF-435D-B397-EC810E1C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A11554-9B4F-49B6-AB9A-5FF71D02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52C9F9-FB75-4ACC-8291-AA200EC9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83E941-C97C-4723-89D8-29241C56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4E3A8-B45E-474D-A07C-713301BE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F6EF3B-8562-415D-ADE4-B0ECE606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DD378A-72E1-4533-B68E-9AE0F2B8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07706B-E607-4FF4-8151-5252AA6A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22DAC8-DB70-46AC-BAF0-E4D62AD9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47A8CE-532C-4A10-B867-D68C1E0C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C48E63-AC8C-4021-A27A-865D5032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E773EF-A95E-4C50-A331-69A40630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7757FF-C11F-4817-892D-F63A96B6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A4F46F-04D3-4605-AE0B-43408484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F3336B-7035-43A1-A953-128E7D89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1013C-DE4A-493E-8DB1-85640FA5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C59323-9EF4-4A36-A273-FADC5F1E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13CA4E-22F1-4F11-9818-706177AC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B6B8E4-0D19-4A73-9A16-605EAD09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DC2B6E-0A0A-4C77-BF05-BD9D57A6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34E1EC-E567-4A9C-8537-BD3E4AC3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600E7B-857C-4DB3-8D72-786CA4A9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12552F-E242-4F5A-83FA-7698C4BA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7FD0A-79C8-4D97-84E5-8F0D9AEA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9921E-4274-43C0-B9FD-5D4A7ACA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0D88C3-48FD-4BB8-B922-A487A7D0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CC75BD-7F1F-4E07-94A3-5DEF91611638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11"/>
          <p:cNvGrpSpPr/>
          <p:nvPr/>
        </p:nvGrpSpPr>
        <p:grpSpPr>
          <a:xfrm>
            <a:off x="4267080" y="0"/>
            <a:ext cx="4876920" cy="6858000"/>
            <a:chOff x="4267080" y="0"/>
            <a:chExt cx="4876920" cy="6858000"/>
          </a:xfrm>
        </p:grpSpPr>
        <p:pic>
          <p:nvPicPr>
            <p:cNvPr id="404" name="Picture 7" descr="Overlay-Blank.jpg"/>
            <p:cNvPicPr/>
            <p:nvPr/>
          </p:nvPicPr>
          <p:blipFill>
            <a:blip r:embed="rId3"/>
            <a:srcRect l="4300" t="0" r="46876" b="0"/>
            <a:stretch/>
          </p:blipFill>
          <p:spPr>
            <a:xfrm>
              <a:off x="4495680" y="0"/>
              <a:ext cx="4648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8" descr="Overlay-VerticalBridge.jpg"/>
            <p:cNvPicPr/>
            <p:nvPr/>
          </p:nvPicPr>
          <p:blipFill>
            <a:blip r:embed="rId4"/>
            <a:stretch/>
          </p:blipFill>
          <p:spPr>
            <a:xfrm flipH="1">
              <a:off x="4267080" y="0"/>
              <a:ext cx="267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6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7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8F97DB-D655-450F-8D10-5C6140E7BA81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Overlay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9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0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6434E-D78A-4CAE-B514-F02FB77CEB85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8"/>
          <p:cNvGrpSpPr/>
          <p:nvPr/>
        </p:nvGrpSpPr>
        <p:grpSpPr>
          <a:xfrm>
            <a:off x="4267080" y="0"/>
            <a:ext cx="4876920" cy="6858000"/>
            <a:chOff x="4267080" y="0"/>
            <a:chExt cx="4876920" cy="6858000"/>
          </a:xfrm>
        </p:grpSpPr>
        <p:pic>
          <p:nvPicPr>
            <p:cNvPr id="490" name="Picture 7" descr="Overlay-Blank.jpg"/>
            <p:cNvPicPr/>
            <p:nvPr/>
          </p:nvPicPr>
          <p:blipFill>
            <a:blip r:embed="rId3"/>
            <a:srcRect l="4300" t="0" r="46876" b="0"/>
            <a:stretch/>
          </p:blipFill>
          <p:spPr>
            <a:xfrm>
              <a:off x="4495680" y="0"/>
              <a:ext cx="4648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8" descr="Overlay-VerticalBridge.jpg"/>
            <p:cNvPicPr/>
            <p:nvPr/>
          </p:nvPicPr>
          <p:blipFill>
            <a:blip r:embed="rId4"/>
            <a:stretch/>
          </p:blipFill>
          <p:spPr>
            <a:xfrm flipH="1">
              <a:off x="4267080" y="0"/>
              <a:ext cx="267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2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3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C3FAE-5BD3-47FF-9716-ECEBC2795CE1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6"/>
          <p:cNvGrpSpPr/>
          <p:nvPr/>
        </p:nvGrpSpPr>
        <p:grpSpPr>
          <a:xfrm>
            <a:off x="0" y="1373040"/>
            <a:ext cx="9144000" cy="5484960"/>
            <a:chOff x="0" y="1373040"/>
            <a:chExt cx="9144000" cy="5484960"/>
          </a:xfrm>
        </p:grpSpPr>
        <p:pic>
          <p:nvPicPr>
            <p:cNvPr id="534" name="Picture 7" descr="Overlay-Blank.jpg"/>
            <p:cNvPicPr/>
            <p:nvPr/>
          </p:nvPicPr>
          <p:blipFill>
            <a:blip r:embed="rId3"/>
            <a:srcRect l="0" t="23337" r="0" b="0"/>
            <a:stretch/>
          </p:blipFill>
          <p:spPr>
            <a:xfrm>
              <a:off x="0" y="1600560"/>
              <a:ext cx="9144000" cy="52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8" descr="Overlay-HorizontalBridge.jpg"/>
            <p:cNvPicPr/>
            <p:nvPr/>
          </p:nvPicPr>
          <p:blipFill>
            <a:blip r:embed="rId4"/>
            <a:stretch/>
          </p:blipFill>
          <p:spPr>
            <a:xfrm>
              <a:off x="0" y="1373040"/>
              <a:ext cx="9144000" cy="26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5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6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FCEF2-FC53-4B98-B0E3-0008D371E97B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10"/>
          <p:cNvGrpSpPr/>
          <p:nvPr/>
        </p:nvGrpSpPr>
        <p:grpSpPr>
          <a:xfrm>
            <a:off x="0" y="0"/>
            <a:ext cx="7696080" cy="6858000"/>
            <a:chOff x="0" y="0"/>
            <a:chExt cx="7696080" cy="6858000"/>
          </a:xfrm>
        </p:grpSpPr>
        <p:pic>
          <p:nvPicPr>
            <p:cNvPr id="578" name="Picture 7" descr="Overlay-Blank.jpg"/>
            <p:cNvPicPr/>
            <p:nvPr/>
          </p:nvPicPr>
          <p:blipFill>
            <a:blip r:embed="rId3"/>
            <a:srcRect l="1473" t="0" r="16864" b="0"/>
            <a:stretch/>
          </p:blipFill>
          <p:spPr>
            <a:xfrm>
              <a:off x="0" y="0"/>
              <a:ext cx="74674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8" descr="Overlay-VerticalBridge.jpg"/>
            <p:cNvPicPr/>
            <p:nvPr/>
          </p:nvPicPr>
          <p:blipFill>
            <a:blip r:embed="rId4"/>
            <a:stretch/>
          </p:blipFill>
          <p:spPr>
            <a:xfrm>
              <a:off x="7428240" y="0"/>
              <a:ext cx="267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8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9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0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03436-AEB5-4D37-81B6-A749CEEE3471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5"/>
          <p:cNvGrpSpPr/>
          <p:nvPr/>
        </p:nvGrpSpPr>
        <p:grpSpPr>
          <a:xfrm>
            <a:off x="0" y="0"/>
            <a:ext cx="1581120" cy="6858000"/>
            <a:chOff x="0" y="0"/>
            <a:chExt cx="1581120" cy="6858000"/>
          </a:xfrm>
        </p:grpSpPr>
        <p:pic>
          <p:nvPicPr>
            <p:cNvPr id="42" name="Picture 7" descr="Overlay-Blank.jpg"/>
            <p:cNvPicPr/>
            <p:nvPr/>
          </p:nvPicPr>
          <p:blipFill>
            <a:blip r:embed="rId3"/>
            <a:srcRect l="1473" t="0" r="83678" b="0"/>
            <a:stretch/>
          </p:blipFill>
          <p:spPr>
            <a:xfrm>
              <a:off x="0" y="0"/>
              <a:ext cx="1358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Overlay-VerticalBridge.jpg"/>
            <p:cNvPicPr/>
            <p:nvPr/>
          </p:nvPicPr>
          <p:blipFill>
            <a:blip r:embed="rId4"/>
            <a:stretch/>
          </p:blipFill>
          <p:spPr>
            <a:xfrm>
              <a:off x="1313280" y="0"/>
              <a:ext cx="2678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" name="Group 16"/>
          <p:cNvGrpSpPr/>
          <p:nvPr/>
        </p:nvGrpSpPr>
        <p:grpSpPr>
          <a:xfrm>
            <a:off x="7546680" y="0"/>
            <a:ext cx="1597320" cy="6858000"/>
            <a:chOff x="7546680" y="0"/>
            <a:chExt cx="1597320" cy="6858000"/>
          </a:xfrm>
        </p:grpSpPr>
        <p:pic>
          <p:nvPicPr>
            <p:cNvPr id="45" name="Picture 10" descr="Overlay-Blank.jpg"/>
            <p:cNvPicPr/>
            <p:nvPr/>
          </p:nvPicPr>
          <p:blipFill>
            <a:blip r:embed="rId5"/>
            <a:srcRect l="0" t="0" r="85129" b="0"/>
            <a:stretch/>
          </p:blipFill>
          <p:spPr>
            <a:xfrm>
              <a:off x="7784280" y="0"/>
              <a:ext cx="13597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1" descr="Overlay-VerticalBridge.jpg"/>
            <p:cNvPicPr/>
            <p:nvPr/>
          </p:nvPicPr>
          <p:blipFill>
            <a:blip r:embed="rId6"/>
            <a:stretch/>
          </p:blipFill>
          <p:spPr>
            <a:xfrm flipH="1">
              <a:off x="7546680" y="0"/>
              <a:ext cx="26748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12" descr="HR-Color.png"/>
          <p:cNvPicPr/>
          <p:nvPr/>
        </p:nvPicPr>
        <p:blipFill>
          <a:blip r:embed="rId7"/>
          <a:stretch/>
        </p:blipFill>
        <p:spPr>
          <a:xfrm>
            <a:off x="1554120" y="4842000"/>
            <a:ext cx="6035760" cy="33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2574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2f1f5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752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6"/>
          <p:cNvGrpSpPr/>
          <p:nvPr/>
        </p:nvGrpSpPr>
        <p:grpSpPr>
          <a:xfrm>
            <a:off x="0" y="1373040"/>
            <a:ext cx="9144000" cy="5484960"/>
            <a:chOff x="0" y="1373040"/>
            <a:chExt cx="9144000" cy="5484960"/>
          </a:xfrm>
        </p:grpSpPr>
        <p:pic>
          <p:nvPicPr>
            <p:cNvPr id="89" name="Picture 7" descr="Overlay-Blank.jpg"/>
            <p:cNvPicPr/>
            <p:nvPr/>
          </p:nvPicPr>
          <p:blipFill>
            <a:blip r:embed="rId3"/>
            <a:srcRect l="0" t="23337" r="0" b="0"/>
            <a:stretch/>
          </p:blipFill>
          <p:spPr>
            <a:xfrm>
              <a:off x="0" y="1600560"/>
              <a:ext cx="9144000" cy="52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8" descr="Overlay-HorizontalBridge.jpg"/>
            <p:cNvPicPr/>
            <p:nvPr/>
          </p:nvPicPr>
          <p:blipFill>
            <a:blip r:embed="rId4"/>
            <a:stretch/>
          </p:blipFill>
          <p:spPr>
            <a:xfrm>
              <a:off x="0" y="1373040"/>
              <a:ext cx="9144000" cy="26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F743B-6707-4EEF-8BCF-F64120DC2CE9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5"/>
          <p:cNvGrpSpPr/>
          <p:nvPr/>
        </p:nvGrpSpPr>
        <p:grpSpPr>
          <a:xfrm>
            <a:off x="0" y="0"/>
            <a:ext cx="1581120" cy="6858000"/>
            <a:chOff x="0" y="0"/>
            <a:chExt cx="1581120" cy="6858000"/>
          </a:xfrm>
        </p:grpSpPr>
        <p:pic>
          <p:nvPicPr>
            <p:cNvPr id="133" name="Picture 7" descr="Overlay-Blank.jpg"/>
            <p:cNvPicPr/>
            <p:nvPr/>
          </p:nvPicPr>
          <p:blipFill>
            <a:blip r:embed="rId3"/>
            <a:srcRect l="1473" t="0" r="83678" b="0"/>
            <a:stretch/>
          </p:blipFill>
          <p:spPr>
            <a:xfrm>
              <a:off x="0" y="0"/>
              <a:ext cx="1358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8" descr="Overlay-VerticalBridge.jpg"/>
            <p:cNvPicPr/>
            <p:nvPr/>
          </p:nvPicPr>
          <p:blipFill>
            <a:blip r:embed="rId4"/>
            <a:stretch/>
          </p:blipFill>
          <p:spPr>
            <a:xfrm>
              <a:off x="1313280" y="0"/>
              <a:ext cx="2678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Group 16"/>
          <p:cNvGrpSpPr/>
          <p:nvPr/>
        </p:nvGrpSpPr>
        <p:grpSpPr>
          <a:xfrm>
            <a:off x="7546680" y="0"/>
            <a:ext cx="1597320" cy="6858000"/>
            <a:chOff x="7546680" y="0"/>
            <a:chExt cx="1597320" cy="6858000"/>
          </a:xfrm>
        </p:grpSpPr>
        <p:pic>
          <p:nvPicPr>
            <p:cNvPr id="136" name="Picture 10" descr="Overlay-Blank.jpg"/>
            <p:cNvPicPr/>
            <p:nvPr/>
          </p:nvPicPr>
          <p:blipFill>
            <a:blip r:embed="rId5"/>
            <a:srcRect l="0" t="0" r="85129" b="0"/>
            <a:stretch/>
          </p:blipFill>
          <p:spPr>
            <a:xfrm>
              <a:off x="7784280" y="0"/>
              <a:ext cx="13597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1" descr="Overlay-VerticalBridge.jpg"/>
            <p:cNvPicPr/>
            <p:nvPr/>
          </p:nvPicPr>
          <p:blipFill>
            <a:blip r:embed="rId6"/>
            <a:stretch/>
          </p:blipFill>
          <p:spPr>
            <a:xfrm flipH="1">
              <a:off x="7546680" y="0"/>
              <a:ext cx="26748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Picture 12" descr="HR-Color.png"/>
          <p:cNvPicPr/>
          <p:nvPr/>
        </p:nvPicPr>
        <p:blipFill>
          <a:blip r:embed="rId7"/>
          <a:stretch/>
        </p:blipFill>
        <p:spPr>
          <a:xfrm>
            <a:off x="1554120" y="4842000"/>
            <a:ext cx="6035760" cy="339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9"/>
          </p:nvPr>
        </p:nvSpPr>
        <p:spPr>
          <a:xfrm>
            <a:off x="52574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2f1f5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0"/>
          </p:nvPr>
        </p:nvSpPr>
        <p:spPr>
          <a:xfrm>
            <a:off x="1752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9"/>
          <p:cNvGrpSpPr/>
          <p:nvPr/>
        </p:nvGrpSpPr>
        <p:grpSpPr>
          <a:xfrm>
            <a:off x="0" y="0"/>
            <a:ext cx="9144000" cy="1190160"/>
            <a:chOff x="0" y="0"/>
            <a:chExt cx="9144000" cy="1190160"/>
          </a:xfrm>
        </p:grpSpPr>
        <p:pic>
          <p:nvPicPr>
            <p:cNvPr id="180" name="Picture 7" descr="Overlay-Blank.jpg"/>
            <p:cNvPicPr/>
            <p:nvPr/>
          </p:nvPicPr>
          <p:blipFill>
            <a:blip r:embed="rId3"/>
            <a:srcRect l="0" t="0" r="0" b="85561"/>
            <a:stretch/>
          </p:blipFill>
          <p:spPr>
            <a:xfrm>
              <a:off x="0" y="0"/>
              <a:ext cx="9144000" cy="9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8" descr="Overlay-HorizontalBridge.jpg"/>
            <p:cNvPicPr/>
            <p:nvPr/>
          </p:nvPicPr>
          <p:blipFill>
            <a:blip r:embed="rId4"/>
            <a:stretch/>
          </p:blipFill>
          <p:spPr>
            <a:xfrm flipH="1" rot="10800000">
              <a:off x="0" y="922320"/>
              <a:ext cx="9144000" cy="26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10"/>
          <p:cNvGrpSpPr/>
          <p:nvPr/>
        </p:nvGrpSpPr>
        <p:grpSpPr>
          <a:xfrm>
            <a:off x="0" y="5667480"/>
            <a:ext cx="9144000" cy="1190160"/>
            <a:chOff x="0" y="5667480"/>
            <a:chExt cx="9144000" cy="1190160"/>
          </a:xfrm>
        </p:grpSpPr>
        <p:pic>
          <p:nvPicPr>
            <p:cNvPr id="183" name="Picture 10" descr="Overlay-Blank.jpg"/>
            <p:cNvPicPr/>
            <p:nvPr/>
          </p:nvPicPr>
          <p:blipFill>
            <a:blip r:embed="rId5"/>
            <a:srcRect l="0" t="0" r="0" b="85561"/>
            <a:stretch/>
          </p:blipFill>
          <p:spPr>
            <a:xfrm flipH="1" rot="10800000">
              <a:off x="0" y="5867280"/>
              <a:ext cx="9144000" cy="9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1" descr="Overlay-HorizontalBridge.jpg"/>
            <p:cNvPicPr/>
            <p:nvPr/>
          </p:nvPicPr>
          <p:blipFill>
            <a:blip r:embed="rId6"/>
            <a:stretch/>
          </p:blipFill>
          <p:spPr>
            <a:xfrm>
              <a:off x="0" y="5667480"/>
              <a:ext cx="9144000" cy="26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Picture 12" descr="HR-Color.png"/>
          <p:cNvPicPr/>
          <p:nvPr/>
        </p:nvPicPr>
        <p:blipFill>
          <a:blip r:embed="rId7"/>
          <a:stretch/>
        </p:blipFill>
        <p:spPr>
          <a:xfrm>
            <a:off x="1554120" y="3259080"/>
            <a:ext cx="6035760" cy="3398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1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2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97126-BE83-4C72-9A8C-4E3D56E9751A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6"/>
          <p:cNvGrpSpPr/>
          <p:nvPr/>
        </p:nvGrpSpPr>
        <p:grpSpPr>
          <a:xfrm>
            <a:off x="0" y="1373040"/>
            <a:ext cx="9144000" cy="5484960"/>
            <a:chOff x="0" y="1373040"/>
            <a:chExt cx="9144000" cy="5484960"/>
          </a:xfrm>
        </p:grpSpPr>
        <p:pic>
          <p:nvPicPr>
            <p:cNvPr id="228" name="Picture 7" descr="Overlay-Blank.jpg"/>
            <p:cNvPicPr/>
            <p:nvPr/>
          </p:nvPicPr>
          <p:blipFill>
            <a:blip r:embed="rId3"/>
            <a:srcRect l="0" t="23337" r="0" b="0"/>
            <a:stretch/>
          </p:blipFill>
          <p:spPr>
            <a:xfrm>
              <a:off x="0" y="1600560"/>
              <a:ext cx="9144000" cy="52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8" descr="Overlay-HorizontalBridge.jpg"/>
            <p:cNvPicPr/>
            <p:nvPr/>
          </p:nvPicPr>
          <p:blipFill>
            <a:blip r:embed="rId4"/>
            <a:stretch/>
          </p:blipFill>
          <p:spPr>
            <a:xfrm>
              <a:off x="0" y="1373040"/>
              <a:ext cx="9144000" cy="26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4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5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279CB-625D-48EC-8484-219E90179364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6"/>
          <p:cNvGrpSpPr/>
          <p:nvPr/>
        </p:nvGrpSpPr>
        <p:grpSpPr>
          <a:xfrm>
            <a:off x="0" y="1373040"/>
            <a:ext cx="9144000" cy="5484960"/>
            <a:chOff x="0" y="1373040"/>
            <a:chExt cx="9144000" cy="5484960"/>
          </a:xfrm>
        </p:grpSpPr>
        <p:pic>
          <p:nvPicPr>
            <p:cNvPr id="272" name="Picture 7" descr="Overlay-Blank.jpg"/>
            <p:cNvPicPr/>
            <p:nvPr/>
          </p:nvPicPr>
          <p:blipFill>
            <a:blip r:embed="rId3"/>
            <a:srcRect l="0" t="23337" r="0" b="0"/>
            <a:stretch/>
          </p:blipFill>
          <p:spPr>
            <a:xfrm>
              <a:off x="0" y="1600560"/>
              <a:ext cx="9144000" cy="52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8" descr="Overlay-HorizontalBridge.jpg"/>
            <p:cNvPicPr/>
            <p:nvPr/>
          </p:nvPicPr>
          <p:blipFill>
            <a:blip r:embed="rId4"/>
            <a:stretch/>
          </p:blipFill>
          <p:spPr>
            <a:xfrm>
              <a:off x="0" y="1373040"/>
              <a:ext cx="9144000" cy="26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4" name="Picture 9" descr="Overlay-HorizontalBridge.jpg"/>
          <p:cNvPicPr/>
          <p:nvPr/>
        </p:nvPicPr>
        <p:blipFill>
          <a:blip r:embed="rId5"/>
          <a:srcRect l="0" t="23426" r="61034" b="39798"/>
          <a:stretch/>
        </p:blipFill>
        <p:spPr>
          <a:xfrm>
            <a:off x="4765680" y="2460600"/>
            <a:ext cx="3564000" cy="98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Overlay-HorizontalBridge.jpg"/>
          <p:cNvPicPr/>
          <p:nvPr/>
        </p:nvPicPr>
        <p:blipFill>
          <a:blip r:embed="rId6"/>
          <a:srcRect l="0" t="23426" r="61034" b="39798"/>
          <a:stretch/>
        </p:blipFill>
        <p:spPr>
          <a:xfrm>
            <a:off x="779400" y="2460600"/>
            <a:ext cx="3564000" cy="982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7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8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F91C7-A8DC-4462-9054-186B08157650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6"/>
          <p:cNvGrpSpPr/>
          <p:nvPr/>
        </p:nvGrpSpPr>
        <p:grpSpPr>
          <a:xfrm>
            <a:off x="0" y="1373040"/>
            <a:ext cx="9144000" cy="5484960"/>
            <a:chOff x="0" y="1373040"/>
            <a:chExt cx="9144000" cy="5484960"/>
          </a:xfrm>
        </p:grpSpPr>
        <p:pic>
          <p:nvPicPr>
            <p:cNvPr id="318" name="Picture 7" descr="Overlay-Blank.jpg"/>
            <p:cNvPicPr/>
            <p:nvPr/>
          </p:nvPicPr>
          <p:blipFill>
            <a:blip r:embed="rId3"/>
            <a:srcRect l="0" t="23337" r="0" b="0"/>
            <a:stretch/>
          </p:blipFill>
          <p:spPr>
            <a:xfrm>
              <a:off x="0" y="1600560"/>
              <a:ext cx="9144000" cy="52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8" descr="Overlay-HorizontalBridge.jpg"/>
            <p:cNvPicPr/>
            <p:nvPr/>
          </p:nvPicPr>
          <p:blipFill>
            <a:blip r:embed="rId4"/>
            <a:stretch/>
          </p:blipFill>
          <p:spPr>
            <a:xfrm>
              <a:off x="0" y="1373040"/>
              <a:ext cx="9144000" cy="26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0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1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C56F3-D1A1-49B9-877E-BC8E4764AF85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6" descr="Overlay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3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4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86F25-6DB6-4C80-9CAF-9C060916E841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854000" y="380880"/>
            <a:ext cx="544644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7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2f1f58"/>
                </a:solidFill>
                <a:latin typeface="Mistral"/>
              </a:rPr>
              <a:t>Graphic Novels</a:t>
            </a:r>
            <a:endParaRPr b="0" lang="en-US" sz="65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294920" y="51814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f58"/>
                </a:solidFill>
                <a:latin typeface="Candara"/>
              </a:rPr>
              <a:t>Office of Educational Technology Queens</a:t>
            </a:r>
            <a:endParaRPr b="0" lang="en-US" sz="2200" spc="-1" strike="noStrike">
              <a:solidFill>
                <a:srgbClr val="2f1f58"/>
              </a:solidFill>
              <a:latin typeface="Candara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f58"/>
                </a:solidFill>
                <a:latin typeface="Candara"/>
              </a:rPr>
              <a:t>Enhancing Writing Instruction Through Technology</a:t>
            </a:r>
            <a:endParaRPr b="0" lang="en-US" sz="22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1295280" y="2590920"/>
            <a:ext cx="637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the interplay of the written and the visual is a complicated process; a comic does not happen in the words, or the pictures, but somewhere in between, in what is sometimes known as “the marriage of text and image.’”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1" name="TextBox 4"/>
          <p:cNvSpPr/>
          <p:nvPr/>
        </p:nvSpPr>
        <p:spPr>
          <a:xfrm>
            <a:off x="304920" y="27432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“</a:t>
            </a: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Selecting our Seed Ideas”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Make a list of special: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685800" indent="-336600"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f58"/>
                </a:solidFill>
                <a:latin typeface="Candara"/>
              </a:rPr>
              <a:t>Places</a:t>
            </a:r>
            <a:endParaRPr b="0" lang="en-US" sz="2600" spc="-1" strike="noStrike">
              <a:solidFill>
                <a:srgbClr val="2f1f58"/>
              </a:solidFill>
              <a:latin typeface="Candara"/>
            </a:endParaRPr>
          </a:p>
          <a:p>
            <a:pPr lvl="1" marL="685800" indent="-336600"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f58"/>
                </a:solidFill>
                <a:latin typeface="Candara"/>
              </a:rPr>
              <a:t>Objects</a:t>
            </a:r>
            <a:endParaRPr b="0" lang="en-US" sz="2600" spc="-1" strike="noStrike">
              <a:solidFill>
                <a:srgbClr val="2f1f58"/>
              </a:solidFill>
              <a:latin typeface="Candara"/>
            </a:endParaRPr>
          </a:p>
          <a:p>
            <a:pPr lvl="1" marL="685800" indent="-336600"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f58"/>
                </a:solidFill>
                <a:latin typeface="Candara"/>
              </a:rPr>
              <a:t>Animals (can be human)</a:t>
            </a:r>
            <a:endParaRPr b="0" lang="en-US" sz="2600" spc="-1" strike="noStrike">
              <a:solidFill>
                <a:srgbClr val="2f1f58"/>
              </a:solidFill>
              <a:latin typeface="Candara"/>
            </a:endParaRPr>
          </a:p>
          <a:p>
            <a:pPr lvl="1" marL="685800" indent="-336600"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f58"/>
                </a:solidFill>
                <a:latin typeface="Candara"/>
              </a:rPr>
              <a:t>Events</a:t>
            </a:r>
            <a:endParaRPr b="0" lang="en-US" sz="2600" spc="-1" strike="noStrike">
              <a:solidFill>
                <a:srgbClr val="2f1f58"/>
              </a:solidFill>
              <a:latin typeface="Candara"/>
            </a:endParaRPr>
          </a:p>
          <a:p>
            <a:pPr lvl="1" marL="685800" indent="-336600"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f58"/>
              </a:solidFill>
              <a:latin typeface="Candara"/>
            </a:endParaRPr>
          </a:p>
          <a:p>
            <a:pPr marL="343080" indent="-3430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Narrow down your list by thinking about the most significant of these.  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Drafting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Begin writing your “Seed piece”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685800" indent="-336600"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f58"/>
                </a:solidFill>
                <a:latin typeface="Candara"/>
              </a:rPr>
              <a:t>Remember to try and include:</a:t>
            </a:r>
            <a:endParaRPr b="0" lang="en-US" sz="2600" spc="-1" strike="noStrike">
              <a:solidFill>
                <a:srgbClr val="2f1f58"/>
              </a:solidFill>
              <a:latin typeface="Candara"/>
            </a:endParaRPr>
          </a:p>
          <a:p>
            <a:pPr lvl="2" marL="1035000" indent="-349200">
              <a:spcBef>
                <a:spcPts val="601"/>
              </a:spcBef>
              <a:buClr>
                <a:srgbClr val="baabe3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Similes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lvl="2" marL="1035000" indent="-349200">
              <a:spcBef>
                <a:spcPts val="601"/>
              </a:spcBef>
              <a:buClr>
                <a:srgbClr val="baabe3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Metaphors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lvl="2" marL="1035000" indent="-349200">
              <a:spcBef>
                <a:spcPts val="601"/>
              </a:spcBef>
              <a:buClr>
                <a:srgbClr val="baabe3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Personification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lvl="2" marL="1035000" indent="-349200">
              <a:spcBef>
                <a:spcPts val="601"/>
              </a:spcBef>
              <a:buClr>
                <a:srgbClr val="baabe3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Onomatopoeia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lvl="2" marL="1035000" indent="-349200">
              <a:spcBef>
                <a:spcPts val="601"/>
              </a:spcBef>
              <a:buClr>
                <a:srgbClr val="baabe3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Sensory details (sight, sound, taste, touch, smell)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lvl="2" marL="1035000" indent="-349200">
              <a:spcBef>
                <a:spcPts val="601"/>
              </a:spcBef>
              <a:buClr>
                <a:srgbClr val="baabe3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Turning Your Narrative into a Graphic Novel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4272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1f58"/>
                </a:solidFill>
                <a:latin typeface="Arial"/>
              </a:rPr>
              <a:t>A blending of words and images to tell your story.</a:t>
            </a:r>
            <a:endParaRPr b="0" lang="en-US" sz="3100" spc="-1" strike="noStrike">
              <a:solidFill>
                <a:srgbClr val="2f1f58"/>
              </a:solidFill>
              <a:latin typeface="Candara"/>
            </a:endParaRPr>
          </a:p>
          <a:p>
            <a:pPr lvl="2" marL="857160" indent="-2854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1f58"/>
                </a:solidFill>
                <a:latin typeface="Arial"/>
              </a:rPr>
              <a:t>Images need to be carefully chosen to help move story.</a:t>
            </a:r>
            <a:endParaRPr b="0" lang="en-US" sz="2900" spc="-1" strike="noStrike">
              <a:solidFill>
                <a:srgbClr val="2f1f58"/>
              </a:solidFill>
              <a:latin typeface="Candara"/>
            </a:endParaRPr>
          </a:p>
          <a:p>
            <a:pPr lvl="2" marL="857160" indent="-2854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1f58"/>
                </a:solidFill>
                <a:latin typeface="Arial"/>
              </a:rPr>
              <a:t>Text needs to be succinct (and yet still powerful)! </a:t>
            </a:r>
            <a:endParaRPr b="0" lang="en-US" sz="2900" spc="-1" strike="noStrike">
              <a:solidFill>
                <a:srgbClr val="2f1f58"/>
              </a:solidFill>
              <a:latin typeface="Candara"/>
            </a:endParaRPr>
          </a:p>
          <a:p>
            <a:pPr lvl="2" marL="857160" indent="-2854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2f1f58"/>
              </a:solidFill>
              <a:latin typeface="Candara"/>
            </a:endParaRPr>
          </a:p>
          <a:p>
            <a:pPr lvl="2" marL="857160" indent="-2854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lvl="2" marL="857160" indent="-2854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Text in Graphic Novels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42720">
              <a:lnSpc>
                <a:spcPct val="85000"/>
              </a:lnSpc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Arial"/>
              </a:rPr>
              <a:t>Although text is succinct, it is still very important and therefore, a script is necessary.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lvl="1" marL="685800" indent="-342720">
              <a:lnSpc>
                <a:spcPct val="85000"/>
              </a:lnSpc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Arial"/>
              </a:rPr>
              <a:t>Space limits the words in a graphic novel, but this limit only makes them more valuable.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43080" indent="-343080" algn="ctr">
              <a:lnSpc>
                <a:spcPct val="8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f1f58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2f1f58"/>
                </a:solidFill>
                <a:latin typeface="Arial"/>
              </a:rPr>
              <a:t>Treat words like rare diamonds, and your reward will be a storytelling treasure”</a:t>
            </a:r>
            <a:r>
              <a:rPr b="0" lang="en-US" sz="1900" spc="-1" strike="noStrike">
                <a:solidFill>
                  <a:srgbClr val="2f1f58"/>
                </a:solidFill>
                <a:latin typeface="Arial"/>
              </a:rPr>
              <a:t> Rosinsky, 42. </a:t>
            </a:r>
            <a:r>
              <a:rPr b="0" lang="en-US" sz="3400" spc="-1" strike="noStrike">
                <a:solidFill>
                  <a:srgbClr val="2f1f58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2f1f58"/>
              </a:solidFill>
              <a:latin typeface="Candara"/>
            </a:endParaRPr>
          </a:p>
          <a:p>
            <a:pPr lvl="1" marL="685800" indent="-342720">
              <a:lnSpc>
                <a:spcPct val="85000"/>
              </a:lnSpc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Arial"/>
              </a:rPr>
              <a:t>A good rule of thumb would be to have no more than 30 words in a panel and no more than 17 in a speech bubble.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Text Features in Graphic Novels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0" y="1452240"/>
            <a:ext cx="91440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Balloons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lvl="1" marL="678600" indent="-333000">
              <a:lnSpc>
                <a:spcPct val="80000"/>
              </a:lnSpc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Speech bubbles- what the characters are saying.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lvl="1" marL="678600" indent="-333000">
              <a:lnSpc>
                <a:spcPct val="80000"/>
              </a:lnSpc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Thought bubbles- what the characters are thinking. 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39480" indent="-339480" algn="ct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**Match the size, shape and type of line you use to the content of the speech/thought.**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39480" indent="-33948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1f58"/>
                </a:solidFill>
                <a:latin typeface="Candara"/>
              </a:rPr>
              <a:t>For example:</a:t>
            </a:r>
            <a:endParaRPr b="0" lang="en-US" sz="1900" spc="-1" strike="noStrike">
              <a:solidFill>
                <a:srgbClr val="2f1f58"/>
              </a:solidFill>
              <a:latin typeface="Candara"/>
            </a:endParaRPr>
          </a:p>
          <a:p>
            <a:pPr lvl="3" marL="1357560" indent="-333000">
              <a:lnSpc>
                <a:spcPct val="80000"/>
              </a:lnSpc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1f58"/>
                </a:solidFill>
                <a:latin typeface="Candara"/>
              </a:rPr>
              <a:t>Use jagged lines to indicate anger, yelling, screaming, or fright.</a:t>
            </a:r>
            <a:endParaRPr b="0" lang="en-US" sz="1900" spc="-1" strike="noStrike">
              <a:solidFill>
                <a:srgbClr val="2f1f58"/>
              </a:solidFill>
              <a:latin typeface="Candara"/>
            </a:endParaRPr>
          </a:p>
          <a:p>
            <a:pPr lvl="3" marL="1357560" indent="-333000">
              <a:lnSpc>
                <a:spcPct val="80000"/>
              </a:lnSpc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1f58"/>
                </a:solidFill>
                <a:latin typeface="Candara"/>
              </a:rPr>
              <a:t>Place shouts in large balloons </a:t>
            </a:r>
            <a:endParaRPr b="0" lang="en-US" sz="1900" spc="-1" strike="noStrike">
              <a:solidFill>
                <a:srgbClr val="2f1f58"/>
              </a:solidFill>
              <a:latin typeface="Candara"/>
            </a:endParaRPr>
          </a:p>
          <a:p>
            <a:pPr lvl="3" marL="1357560" indent="-333000">
              <a:lnSpc>
                <a:spcPct val="80000"/>
              </a:lnSpc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1f58"/>
                </a:solidFill>
                <a:latin typeface="Candara"/>
              </a:rPr>
              <a:t>Place whispers in small balloons.</a:t>
            </a:r>
            <a:endParaRPr b="0" lang="en-US" sz="1900" spc="-1" strike="noStrike">
              <a:solidFill>
                <a:srgbClr val="2f1f58"/>
              </a:solidFill>
              <a:latin typeface="Candara"/>
            </a:endParaRPr>
          </a:p>
          <a:p>
            <a:pPr lvl="3" marL="1357560" indent="-333000">
              <a:lnSpc>
                <a:spcPct val="80000"/>
              </a:lnSpc>
              <a:spcBef>
                <a:spcPts val="601"/>
              </a:spcBef>
              <a:buClr>
                <a:srgbClr val="2f1f58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1f58"/>
                </a:solidFill>
                <a:latin typeface="Candara"/>
              </a:rPr>
              <a:t>Use bubble tails for thought balloons.</a:t>
            </a: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  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39480" indent="-339480">
              <a:lnSpc>
                <a:spcPct val="8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Captions- the narrator of the story. 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39480" indent="-339480">
              <a:lnSpc>
                <a:spcPct val="8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Lettering- used for titles, onomatopoeia 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39480" indent="-339480">
              <a:lnSpc>
                <a:spcPct val="8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2f1f58"/>
                </a:solidFill>
                <a:latin typeface="Candara"/>
              </a:rPr>
              <a:t> </a:t>
            </a:r>
            <a:endParaRPr b="0" lang="en-US" sz="700" spc="-1" strike="noStrike">
              <a:solidFill>
                <a:srgbClr val="2f1f58"/>
              </a:solidFill>
              <a:latin typeface="Candara"/>
            </a:endParaRPr>
          </a:p>
          <a:p>
            <a:pPr marL="339480" indent="-339480">
              <a:lnSpc>
                <a:spcPct val="8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1f58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854000" y="380880"/>
            <a:ext cx="544644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7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2f1f58"/>
                </a:solidFill>
                <a:latin typeface="Mistral"/>
              </a:rPr>
              <a:t>Memoirs</a:t>
            </a:r>
            <a:endParaRPr b="0" lang="en-US" sz="65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1295280" y="2590920"/>
            <a:ext cx="637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In order to write memoir, we need to see that literature is made out of the everyday stuff of our lives.” 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Definitions of Memoirs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0" y="1761840"/>
            <a:ext cx="86868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Virginia Woolf- “A memoir is not what happens, but the person to whom things happen.”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William Zinsser- “Memoir is a window into a life.”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Jean Little- “Memoir is not the whole head of hair but one or two strands of hair.”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Lucy Calkins- “Our memoir will come not only from our memories but also from our imaginations.”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Memoirs are not Autobiographies!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f58"/>
                </a:solidFill>
                <a:latin typeface="Candara"/>
              </a:rPr>
              <a:t>Typically reads more like a novel</a:t>
            </a:r>
            <a:endParaRPr b="0" lang="en-US" sz="2600" spc="-1" strike="noStrike">
              <a:solidFill>
                <a:srgbClr val="2f1f58"/>
              </a:solidFill>
              <a:latin typeface="Candara"/>
            </a:endParaRPr>
          </a:p>
          <a:p>
            <a:pPr marL="318960" indent="-318960">
              <a:lnSpc>
                <a:spcPct val="8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f58"/>
                </a:solidFill>
                <a:latin typeface="Candara"/>
              </a:rPr>
              <a:t>A memoir deals with events related to a specific theme</a:t>
            </a:r>
            <a:endParaRPr b="0" lang="en-US" sz="2600" spc="-1" strike="noStrike">
              <a:solidFill>
                <a:srgbClr val="2f1f58"/>
              </a:solidFill>
              <a:latin typeface="Candara"/>
            </a:endParaRPr>
          </a:p>
          <a:p>
            <a:pPr marL="318960" indent="-318960">
              <a:lnSpc>
                <a:spcPct val="8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f58"/>
                </a:solidFill>
                <a:latin typeface="Candara"/>
              </a:rPr>
              <a:t>They are true stories but tend to read more like fiction.</a:t>
            </a:r>
            <a:endParaRPr b="0" lang="en-US" sz="2600" spc="-1" strike="noStrike">
              <a:solidFill>
                <a:srgbClr val="2f1f58"/>
              </a:solidFill>
              <a:latin typeface="Candara"/>
            </a:endParaRPr>
          </a:p>
          <a:p>
            <a:pPr marL="318960" indent="-318960">
              <a:lnSpc>
                <a:spcPct val="8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f58"/>
              </a:solidFill>
              <a:latin typeface="Candara"/>
            </a:endParaRPr>
          </a:p>
          <a:p>
            <a:pPr marL="318960" indent="-31896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f1f58"/>
                </a:solidFill>
                <a:latin typeface="Mistral"/>
              </a:rPr>
              <a:t>“</a:t>
            </a:r>
            <a:r>
              <a:rPr b="0" lang="en-US" sz="3300" spc="-1" strike="noStrike">
                <a:solidFill>
                  <a:srgbClr val="2f1f58"/>
                </a:solidFill>
                <a:latin typeface="Mistral"/>
              </a:rPr>
              <a:t>In writing memoir, we select moments that reveal our own experiences of our lives.” ~Lucy Caulkins</a:t>
            </a:r>
            <a:r>
              <a:rPr b="0" lang="en-US" sz="3300" spc="-1" strike="noStrike">
                <a:solidFill>
                  <a:srgbClr val="2f1f58"/>
                </a:solidFill>
                <a:latin typeface="Candara"/>
              </a:rPr>
              <a:t> </a:t>
            </a:r>
            <a:endParaRPr b="0" lang="en-US" sz="3300" spc="-1" strike="noStrike">
              <a:solidFill>
                <a:srgbClr val="2f1f58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haracteristics of a Memoir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Focuses and reflects on the relationship between the writer and a particular place, animal, event, or object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18960" indent="-318960">
              <a:lnSpc>
                <a:spcPct val="9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Leaves the reader with one impression of the subject of the memoir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18960" indent="-318960">
              <a:lnSpc>
                <a:spcPct val="9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Limited to a particular phase, time period, place or recurring behavior in order to develop the focus fully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18960" indent="-318960">
              <a:lnSpc>
                <a:spcPct val="9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Makes the subject of the memoir come alive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  <a:p>
            <a:pPr marL="318960" indent="-318960">
              <a:lnSpc>
                <a:spcPct val="9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f58"/>
                </a:solidFill>
                <a:latin typeface="Candara"/>
              </a:rPr>
              <a:t>Maintains a first person point of view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Analyzing Memoirs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Activity:  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marL="343080" indent="-3430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In your folders, there are sample memoirs.  Read the memoir and think about the questions that are asked pertaining to that memoir.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8:22:29Z</dcterms:created>
  <dc:creator>NYCDOE Schools</dc:creator>
  <dc:description/>
  <dc:language>en-US</dc:language>
  <cp:lastModifiedBy>KGallagher4</cp:lastModifiedBy>
  <dcterms:modified xsi:type="dcterms:W3CDTF">2010-10-19T13:23:18Z</dcterms:modified>
  <cp:revision>27</cp:revision>
  <dc:subject/>
  <dc:title>Memoirs</dc:title>
</cp:coreProperties>
</file>